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3800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38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31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192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5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380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7192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05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380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8000" y="6091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38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31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3800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5560" cy="685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380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46280" y="304920"/>
            <a:ext cx="836784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562040" cy="6856560"/>
          </a:xfrm>
          <a:prstGeom prst="rect">
            <a:avLst/>
          </a:prstGeom>
          <a:gradFill rotWithShape="0">
            <a:gsLst>
              <a:gs pos="0">
                <a:srgbClr val="00654b"/>
              </a:gs>
              <a:gs pos="50000">
                <a:srgbClr val="00cc99"/>
              </a:gs>
              <a:gs pos="100000">
                <a:srgbClr val="0065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2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5720" y="62485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sson #8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000680" y="2286000"/>
            <a:ext cx="34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udges 1:1 - 2: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57880" y="3352680"/>
            <a:ext cx="2590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ges 51-5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3800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Judges (15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28720" y="106632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62640" y="1143000"/>
            <a:ext cx="2971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5715000"/>
            <a:ext cx="880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d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fteen word outline” from Judges 1 through 1 Samuel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0640" y="1295280"/>
            <a:ext cx="849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 the periods of Bible history we have stud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Moses died, who became the new leader of Isra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Israel approached the Jordan River, what was their strategy to take the l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were the three areas they conque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did God make it easy for the Israel to take the l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d they “earn” the land, or did God “give” them the land?   Ex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0640" y="3049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rst, let’s review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6480" y="304920"/>
            <a:ext cx="560052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 of Today’s Les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Judah's success and failures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1:1-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2. House of Joseph success and failures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1:22-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3. Zebulun's failures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1: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4. Asher's failures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1:31-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5. Naphtali's failures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1:3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6. Dan's failures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1:34-3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7. Israel's failure to obey God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2:1-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0640" y="38088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faithfulness of Israel (Ch. 1-2)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death of Joshua Israel became unfaithful of God: The Consequences of not driving out nor killing all the gentiles they conquered (1:27,28,29,30,31,33)... they married their women and end up serving the false gods -Baal and Ashtaroth (2: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13 Cycles in the Book of Judges (Ch. 2)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 1- The people worship the gods of other nation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 2- God allows other nations to oppress Israel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 3- The people turn to God for help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 4- God raises up a leader to deliver them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 ... and this leader becomes the Judge or Governor of Israel for several years, in peace, until the people strayed from God again... again and again for 13 times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38760" y="380880"/>
            <a:ext cx="544824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ges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eath of Joshu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Israelites purpose to attack the remaining Canaanites; and the tribe o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Juda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directed to go up first, v. 1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Judah and Simeon uni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ttack the Canaanites and Perrizites, kill ten thousand of them, tak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doni-beze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isoner, cut off his thumbs and great toes, and bring him to Jerusalem, where he dies, v. 3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Jerusalem conque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v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47480" y="5257440"/>
            <a:ext cx="20574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10160" y="304920"/>
            <a:ext cx="5676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 with the Canaanites under the direction o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Cale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v. 9-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Kirjath-sepher (Debir) taken by Othni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n which he receives, as a reward, Achsah, the daughter of Caleb, and with her a south land with springs of water, v. 12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Keni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well among the people, v. 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ah and Simeon destroy the Canaanites in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Zephath, Gaza, Askelon, Ek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tc., v. 17-1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409400" y="2209680"/>
            <a:ext cx="2971800" cy="3733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19240" y="4572000"/>
            <a:ext cx="23623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00280" y="5562360"/>
            <a:ext cx="35049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4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33840" y="533520"/>
            <a:ext cx="5753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Hebr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iven to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leb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v. 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enjamit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vs.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Jebusit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v. 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use of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Josep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ook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ethe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  v. 22-26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ilures of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anasse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v. 2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naanit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ay tribute, v. 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2019240" y="990720"/>
            <a:ext cx="2286000" cy="464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171880" y="1905120"/>
            <a:ext cx="2286000" cy="3124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47480" y="3048120"/>
            <a:ext cx="21337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323800" y="3809880"/>
            <a:ext cx="20574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440" y="380880"/>
            <a:ext cx="5524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Ephraim, Zebulun, Asher, and Napht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v. 29-3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morit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orce the children of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o the mountains, v. 34-3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dges 2:1-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angel comes to the Israelites at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ochi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gives them various reproofs, at which they are greatly aff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400480" y="838080"/>
            <a:ext cx="22096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238200" y="1371600"/>
            <a:ext cx="1219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43280" y="990720"/>
            <a:ext cx="2666880" cy="350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28720" y="914400"/>
            <a:ext cx="198108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857680" y="838080"/>
            <a:ext cx="17524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47840" y="533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in Events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1447920"/>
            <a:ext cx="43434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now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d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20:29:54Z</dcterms:created>
  <dc:creator>Terry Benton</dc:creator>
  <dc:description/>
  <dc:language>en-US</dc:language>
  <cp:lastModifiedBy>Frank D Vines</cp:lastModifiedBy>
  <cp:lastPrinted>31146-01-14T19:25:53Z</cp:lastPrinted>
  <dcterms:modified xsi:type="dcterms:W3CDTF">2005-01-30T05:05:45Z</dcterms:modified>
  <cp:revision>13</cp:revision>
  <dc:subject/>
  <dc:title>Lesson #8</dc:title>
</cp:coreProperties>
</file>